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62ED-DB6A-4202-92DD-0164D60A0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8116-C2C7-45E8-BAAE-5A45C181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9508-8806-4927-8091-AEB68DB4C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B1E3-2ED2-47C3-892F-09E7EF244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19C6-507F-4809-A27D-EFC1D77C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5479-1E98-4196-8750-CC8C52B6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BEFC-C124-428D-88C1-C7241436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06AF-079C-4D86-8A71-1D6D2B0A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9CF4-2108-4747-BB6A-C49144F2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2F23-7DC1-478E-8A68-54888FAD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1129-8979-4186-BB18-8F99A177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202E-CBC5-46AE-8943-5C2967EC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5C99-5521-489C-91D8-821D182E2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475080" y="0"/>
            <a:ext cx="56689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31240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يا رب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إلى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السماء محبتك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وإلى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الغيوم أمانتك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0"/>
            <a:ext cx="6255000" cy="7772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3520" y="228600"/>
            <a:ext cx="236196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دلك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ثل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جبال، وأحكامك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غمرٌ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ظيمٌ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475080" y="0"/>
            <a:ext cx="56689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04920"/>
            <a:ext cx="31240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يا رب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إلى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السماء محبتك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وإلى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الغيوم أمانتك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743200" y="-1523880"/>
            <a:ext cx="7421400" cy="9219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762120"/>
            <a:ext cx="342900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لهم ما أثمن محبتك، إن بني البشر بظل جناحيك يعتصمون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475080" y="0"/>
            <a:ext cx="56689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04920"/>
            <a:ext cx="31240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يا رب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إلى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السماء محبتك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وإلى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الغيوم أمانتك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59086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80880"/>
            <a:ext cx="342900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يرتوون من فيض بيتك لأن عندك ينبوع الحياة وبنورك نعاين النور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475080" y="0"/>
            <a:ext cx="56689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304920"/>
            <a:ext cx="31240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يا رب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إلى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السماء محبتك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وإلى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الغيوم أمانتك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06:27:58Z</dcterms:created>
  <dc:creator>SUZANNE.MD</dc:creator>
  <dc:description/>
  <dc:language>en-US</dc:language>
  <cp:lastModifiedBy>HANI SAFI</cp:lastModifiedBy>
  <dcterms:modified xsi:type="dcterms:W3CDTF">2003-04-17T11:02:19Z</dcterms:modified>
  <cp:revision>2</cp:revision>
  <dc:subject/>
  <dc:title>PowerPoint Presentation</dc:title>
</cp:coreProperties>
</file>